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23.png" ContentType="image/png"/>
  <Override PartName="/ppt/media/image40.png" ContentType="image/png"/>
  <Override PartName="/ppt/media/image35.wmf" ContentType="image/x-wmf"/>
  <Override PartName="/ppt/media/image41.png" ContentType="image/png"/>
  <Override PartName="/ppt/media/image43.png" ContentType="image/png"/>
  <Override PartName="/ppt/media/image33.wmf" ContentType="image/x-wmf"/>
  <Override PartName="/ppt/media/image45.wmf" ContentType="image/x-wmf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50.png" ContentType="image/png"/>
  <Override PartName="/ppt/media/image48.wmf" ContentType="image/x-wmf"/>
  <Override PartName="/ppt/media/image5.png" ContentType="image/png"/>
  <Override PartName="/ppt/media/image51.jpeg" ContentType="image/jpeg"/>
  <Override PartName="/ppt/media/image5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28.wmf" ContentType="image/x-wmf"/>
  <Override PartName="/ppt/media/image13.jpeg" ContentType="image/jpeg"/>
  <Override PartName="/ppt/media/image4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file:///10Math_A2_CR06.ppt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21.png"/><Relationship Id="rId12" Type="http://schemas.openxmlformats.org/officeDocument/2006/relationships/hyperlink" Target="file:///10Math_A2_CR06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09.xml"/><Relationship Id="rId17" Type="http://schemas.openxmlformats.org/officeDocument/2006/relationships/slideLayout" Target="../slideLayouts/slideLayout110.xml"/><Relationship Id="rId18" Type="http://schemas.openxmlformats.org/officeDocument/2006/relationships/slideLayout" Target="../slideLayouts/slideLayout111.xml"/><Relationship Id="rId19" Type="http://schemas.openxmlformats.org/officeDocument/2006/relationships/slideLayout" Target="../slideLayouts/slideLayout112.xml"/><Relationship Id="rId20" Type="http://schemas.openxmlformats.org/officeDocument/2006/relationships/slideLayout" Target="../slideLayouts/slideLayout113.xml"/><Relationship Id="rId21" Type="http://schemas.openxmlformats.org/officeDocument/2006/relationships/slideLayout" Target="../slideLayouts/slideLayout114.xml"/><Relationship Id="rId22" Type="http://schemas.openxmlformats.org/officeDocument/2006/relationships/slideLayout" Target="../slideLayouts/slideLayout115.xml"/><Relationship Id="rId23" Type="http://schemas.openxmlformats.org/officeDocument/2006/relationships/slideLayout" Target="../slideLayouts/slideLayout116.xml"/><Relationship Id="rId24" Type="http://schemas.openxmlformats.org/officeDocument/2006/relationships/slideLayout" Target="../slideLayouts/slideLayout117.xml"/><Relationship Id="rId25" Type="http://schemas.openxmlformats.org/officeDocument/2006/relationships/slideLayout" Target="../slideLayouts/slideLayout118.xml"/><Relationship Id="rId26" Type="http://schemas.openxmlformats.org/officeDocument/2006/relationships/slideLayout" Target="../slideLayouts/slideLayout119.xml"/><Relationship Id="rId2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hyperlink" Target="file:///10Math_A2_CR06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6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hyperlink" Target="file:///10Math_A2_CR06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6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6.png"/><Relationship Id="rId10" Type="http://schemas.openxmlformats.org/officeDocument/2006/relationships/hyperlink" Target="file:///10Math_A2_CR06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7.png"/><Relationship Id="rId10" Type="http://schemas.openxmlformats.org/officeDocument/2006/relationships/hyperlink" Target="file:///10Math_A2_CR06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hyperlink" Target="file:///10Math_A2_CR06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hyperlink" Target="file:///10Math_A2_CR06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<Relationship Id="rId15" Type="http://schemas.openxmlformats.org/officeDocument/2006/relationships/slideLayout" Target="../slideLayouts/slideLayout98.xml"/><Relationship Id="rId16" Type="http://schemas.openxmlformats.org/officeDocument/2006/relationships/slideLayout" Target="../slideLayouts/slideLayout99.xml"/><Relationship Id="rId17" Type="http://schemas.openxmlformats.org/officeDocument/2006/relationships/slideLayout" Target="../slideLayouts/slideLayout100.xml"/><Relationship Id="rId18" Type="http://schemas.openxmlformats.org/officeDocument/2006/relationships/slideLayout" Target="../slideLayouts/slideLayout101.xml"/><Relationship Id="rId19" Type="http://schemas.openxmlformats.org/officeDocument/2006/relationships/slideLayout" Target="../slideLayouts/slideLayout102.xml"/><Relationship Id="rId20" Type="http://schemas.openxmlformats.org/officeDocument/2006/relationships/slideLayout" Target="../slideLayouts/slideLayout103.xml"/><Relationship Id="rId21" Type="http://schemas.openxmlformats.org/officeDocument/2006/relationships/slideLayout" Target="../slideLayouts/slideLayout104.xml"/><Relationship Id="rId22" Type="http://schemas.openxmlformats.org/officeDocument/2006/relationships/slideLayout" Target="../slideLayouts/slideLayout105.xml"/><Relationship Id="rId23" Type="http://schemas.openxmlformats.org/officeDocument/2006/relationships/slideLayout" Target="../slideLayouts/slideLayout106.xml"/><Relationship Id="rId24" Type="http://schemas.openxmlformats.org/officeDocument/2006/relationships/slideLayout" Target="../slideLayouts/slideLayout107.xml"/><Relationship Id="rId2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19173" b="2899"/>
          <a:stretch/>
        </p:blipFill>
        <p:spPr>
          <a:xfrm>
            <a:off x="1752480" y="6067440"/>
            <a:ext cx="7391520" cy="78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3962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5324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>
            <a:off x="809640" y="685800"/>
            <a:ext cx="3683160" cy="1100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9936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0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1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>
            <a:hlinkClick r:id="rId5" action="ppaction://hlinksldjump"/>
          </p:cNvPr>
          <p:cNvPicPr/>
          <p:nvPr/>
        </p:nvPicPr>
        <p:blipFill>
          <a:blip r:embed="rId6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7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1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6"/>
    <p:sldLayoutId id="2147483767" r:id="rId17"/>
    <p:sldLayoutId id="2147483768" r:id="rId18"/>
    <p:sldLayoutId id="2147483769" r:id="rId19"/>
    <p:sldLayoutId id="2147483770" r:id="rId20"/>
    <p:sldLayoutId id="2147483771" r:id="rId21"/>
    <p:sldLayoutId id="2147483772" r:id="rId22"/>
    <p:sldLayoutId id="2147483773" r:id="rId23"/>
    <p:sldLayoutId id="2147483774" r:id="rId24"/>
    <p:sldLayoutId id="2147483775" r:id="rId25"/>
    <p:sldLayoutId id="2147483776" r:id="rId26"/>
    <p:sldLayoutId id="2147483777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8320" y="657360"/>
            <a:ext cx="6793200" cy="62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7467480" y="77616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86200" y="800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984c"/>
                </a:solidFill>
                <a:latin typeface="Arial"/>
              </a:rPr>
              <a:t>Over Lesson 6–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4"/>
    <p:sldLayoutId id="2147483754" r:id="rId15"/>
    <p:sldLayoutId id="2147483755" r:id="rId16"/>
    <p:sldLayoutId id="2147483756" r:id="rId17"/>
    <p:sldLayoutId id="2147483757" r:id="rId18"/>
    <p:sldLayoutId id="2147483758" r:id="rId19"/>
    <p:sldLayoutId id="2147483759" r:id="rId20"/>
    <p:sldLayoutId id="2147483760" r:id="rId21"/>
    <p:sldLayoutId id="2147483761" r:id="rId22"/>
    <p:sldLayoutId id="2147483762" r:id="rId23"/>
    <p:sldLayoutId id="2147483763" r:id="rId24"/>
    <p:sldLayoutId id="2147483764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www.glencoe.com/apps/eGlossary612/grade.php" TargetMode="External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image" Target="../media/image46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46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rcRect l="15315" t="57808" r="62175" b="16627"/>
          <a:stretch/>
        </p:blipFill>
        <p:spPr>
          <a:xfrm>
            <a:off x="3676680" y="3962520"/>
            <a:ext cx="2057400" cy="175248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ash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4305240" y="464832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1971720" y="488484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812880" y="1828800"/>
            <a:ext cx="76197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tic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ed poly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glossary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5181480"/>
            <a:ext cx="1647720" cy="7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2832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9080" y="771480"/>
            <a:ext cx="598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Synthetic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38080" y="150480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If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 = 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5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8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7, find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95360" y="2030400"/>
            <a:ext cx="8077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Method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ynthetic Sub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95360" y="531828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 remainder is 2453. Thus, by using synthetic substitution,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(6) = 245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95360" y="251316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Remainder Theorem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) should be the remainder when you divide the polynomial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909720" y="3298680"/>
            <a:ext cx="7570800" cy="1605960"/>
            <a:chOff x="909720" y="3298680"/>
            <a:chExt cx="7570800" cy="1605960"/>
          </a:xfrm>
        </p:grpSpPr>
        <p:sp>
          <p:nvSpPr>
            <p:cNvPr id="556" name=""/>
            <p:cNvSpPr/>
            <p:nvPr/>
          </p:nvSpPr>
          <p:spPr>
            <a:xfrm flipH="1">
              <a:off x="933120" y="4430880"/>
              <a:ext cx="387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474920" y="4481640"/>
              <a:ext cx="360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509760"/>
                  <a:tab algn="l" pos="1203480"/>
                  <a:tab algn="l" pos="1886040"/>
                  <a:tab algn="l" pos="2685960"/>
                  <a:tab algn="l" pos="2914560"/>
                  <a:tab algn="l" pos="3886200"/>
                  <a:tab algn="l" pos="4857840"/>
                  <a:tab algn="l" pos="5829480"/>
                  <a:tab algn="l" pos="6800760"/>
                  <a:tab algn="l" pos="7772400"/>
                  <a:tab algn="l" pos="8744040"/>
                  <a:tab algn="l" pos="9715680"/>
                  <a:tab algn="l" pos="10686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10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167360" y="4430880"/>
              <a:ext cx="0" cy="44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37200" y="3298680"/>
              <a:ext cx="334332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ice that there is n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erm. A zero is placed in this position as a placehold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73120" y="3300480"/>
              <a:ext cx="360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509760"/>
                  <a:tab algn="l" pos="1203480"/>
                  <a:tab algn="l" pos="1886040"/>
                  <a:tab algn="l" pos="2685960"/>
                  <a:tab algn="l" pos="2914560"/>
                  <a:tab algn="l" pos="3886200"/>
                  <a:tab algn="l" pos="4857840"/>
                  <a:tab algn="l" pos="5829480"/>
                  <a:tab algn="l" pos="6800760"/>
                  <a:tab algn="l" pos="7772400"/>
                  <a:tab algn="l" pos="8744040"/>
                  <a:tab algn="l" pos="9715680"/>
                  <a:tab algn="l" pos="10686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8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–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473120" y="3876840"/>
              <a:ext cx="360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509760"/>
                  <a:tab algn="l" pos="1203480"/>
                  <a:tab algn="l" pos="1886040"/>
                  <a:tab algn="l" pos="2685960"/>
                  <a:tab algn="l" pos="2914560"/>
                  <a:tab algn="l" pos="3886200"/>
                  <a:tab algn="l" pos="4857840"/>
                  <a:tab algn="l" pos="5829480"/>
                  <a:tab algn="l" pos="6800760"/>
                  <a:tab algn="l" pos="7772400"/>
                  <a:tab algn="l" pos="8744040"/>
                  <a:tab algn="l" pos="9715680"/>
                  <a:tab algn="l" pos="10686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2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" descr=""/>
            <p:cNvPicPr/>
            <p:nvPr/>
          </p:nvPicPr>
          <p:blipFill>
            <a:blip r:embed="rId1"/>
            <a:stretch/>
          </p:blipFill>
          <p:spPr>
            <a:xfrm>
              <a:off x="909720" y="3306600"/>
              <a:ext cx="326880" cy="424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9080" y="771480"/>
            <a:ext cx="598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Synthetic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76240" y="150336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Method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Direct Sub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2214720"/>
            <a:ext cx="8076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33520" y="47815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By using direct substitution,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(6) = 245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961920" y="2847960"/>
            <a:ext cx="7858080" cy="528480"/>
            <a:chOff x="961920" y="2847960"/>
            <a:chExt cx="7858080" cy="528480"/>
          </a:xfrm>
        </p:grpSpPr>
        <p:pic>
          <p:nvPicPr>
            <p:cNvPr id="569" name="" descr=""/>
            <p:cNvPicPr/>
            <p:nvPr/>
          </p:nvPicPr>
          <p:blipFill>
            <a:blip r:embed="rId1"/>
            <a:srcRect l="0" t="0" r="0" b="69431"/>
            <a:stretch/>
          </p:blipFill>
          <p:spPr>
            <a:xfrm>
              <a:off x="961920" y="2847960"/>
              <a:ext cx="4606920" cy="5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5472000" y="2889360"/>
              <a:ext cx="3348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iginal 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961920" y="3467160"/>
            <a:ext cx="7858080" cy="492840"/>
            <a:chOff x="961920" y="3467160"/>
            <a:chExt cx="7858080" cy="492840"/>
          </a:xfrm>
        </p:grpSpPr>
        <p:sp>
          <p:nvSpPr>
            <p:cNvPr id="572" name=""/>
            <p:cNvSpPr/>
            <p:nvPr/>
          </p:nvSpPr>
          <p:spPr>
            <a:xfrm>
              <a:off x="5472000" y="3537000"/>
              <a:ext cx="3348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lac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ith 6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" descr=""/>
            <p:cNvPicPr/>
            <p:nvPr/>
          </p:nvPicPr>
          <p:blipFill>
            <a:blip r:embed="rId2"/>
            <a:srcRect l="0" t="35817" r="0" b="35817"/>
            <a:stretch/>
          </p:blipFill>
          <p:spPr>
            <a:xfrm>
              <a:off x="961920" y="3467160"/>
              <a:ext cx="4606920" cy="49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"/>
          <p:cNvGrpSpPr/>
          <p:nvPr/>
        </p:nvGrpSpPr>
        <p:grpSpPr>
          <a:xfrm>
            <a:off x="961920" y="4057560"/>
            <a:ext cx="7858080" cy="519120"/>
            <a:chOff x="961920" y="4057560"/>
            <a:chExt cx="7858080" cy="519120"/>
          </a:xfrm>
        </p:grpSpPr>
        <p:sp>
          <p:nvSpPr>
            <p:cNvPr id="575" name=""/>
            <p:cNvSpPr/>
            <p:nvPr/>
          </p:nvSpPr>
          <p:spPr>
            <a:xfrm>
              <a:off x="5472000" y="4143240"/>
              <a:ext cx="3348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mplif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" descr=""/>
            <p:cNvPicPr/>
            <p:nvPr/>
          </p:nvPicPr>
          <p:blipFill>
            <a:blip r:embed="rId3"/>
            <a:srcRect l="0" t="69979" r="0" b="0"/>
            <a:stretch/>
          </p:blipFill>
          <p:spPr>
            <a:xfrm>
              <a:off x="961920" y="4057560"/>
              <a:ext cx="4606920" cy="519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TPAnswers"/>
          <p:cNvSpPr/>
          <p:nvPr/>
        </p:nvSpPr>
        <p:spPr>
          <a:xfrm>
            <a:off x="857160" y="233676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PQuestion"/>
          <p:cNvSpPr/>
          <p:nvPr/>
        </p:nvSpPr>
        <p:spPr>
          <a:xfrm>
            <a:off x="476280" y="151452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If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 = 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7, find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38080" y="32320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771480"/>
            <a:ext cx="4343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Find Function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1504800"/>
            <a:ext cx="77058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1d24"/>
                </a:solidFill>
                <a:latin typeface="Arial"/>
                <a:ea typeface="Times New Roman"/>
              </a:rPr>
              <a:t>COLLEGE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The number of college students from the United States who study abroad can be modeled by the function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 = 0.0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i="1" lang="en-US" sz="6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0.5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i="1" lang="en-US" sz="6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4.0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i="1" lang="en-US" sz="6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0.09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77.54, where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is the number of years since 1993 and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 is the number of students in thousands. How many U.S. college students will study abroad in 201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33520" y="5448240"/>
            <a:ext cx="7943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In 2011, there will be about 451,760 U.S. college students studying abr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909720" y="3952800"/>
            <a:ext cx="5348160" cy="134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TPChart"/>
          <p:cNvGraphicFramePr/>
          <p:nvPr/>
        </p:nvGraphicFramePr>
        <p:xfrm>
          <a:off x="6572160" y="3733920"/>
          <a:ext cx="2257560" cy="25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3733920"/>
                    <a:ext cx="225756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PAnswers"/>
          <p:cNvSpPr/>
          <p:nvPr/>
        </p:nvSpPr>
        <p:spPr>
          <a:xfrm>
            <a:off x="857160" y="4048200"/>
            <a:ext cx="455292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16,230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38,680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46,720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59,910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PQuestion"/>
          <p:cNvSpPr/>
          <p:nvPr/>
        </p:nvSpPr>
        <p:spPr>
          <a:xfrm>
            <a:off x="476280" y="1503360"/>
            <a:ext cx="81914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1d24"/>
                </a:solidFill>
                <a:latin typeface="Arial"/>
                <a:ea typeface="Times New Roman"/>
              </a:rPr>
              <a:t>HIGH SCHOOL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The number of high school students in the United States who hosted foreign exchange students can be modeled by the function </a:t>
            </a:r>
            <a:br>
              <a:rPr sz="2400"/>
            </a:b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 = 0.0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i="1" lang="en-US" sz="6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0.05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i="1" lang="en-US" sz="6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0.04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i="1" lang="en-US" sz="6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0.0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, where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is the number of years since 1999 and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 is the number of students in thousands. How many U.S. students will host foreign exchange students in 201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47800" y="46576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43164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1522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629080" y="771480"/>
            <a:ext cx="598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Use the Factor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76240" y="1503360"/>
            <a:ext cx="7572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Determine whether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3 is a factor of </a:t>
            </a:r>
            <a:br>
              <a:rPr sz="2400"/>
            </a:b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4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15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18. Then find the remaining factors of the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33520" y="2743200"/>
            <a:ext cx="7915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nomi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3 is a factor of the polynomial if 3 is a zero of the related polynomial function. Use the factor theorem and synthetic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944640" y="4041720"/>
            <a:ext cx="3951360" cy="1446840"/>
            <a:chOff x="944640" y="4041720"/>
            <a:chExt cx="3951360" cy="1446840"/>
          </a:xfrm>
        </p:grpSpPr>
        <p:sp>
          <p:nvSpPr>
            <p:cNvPr id="607" name=""/>
            <p:cNvSpPr/>
            <p:nvPr/>
          </p:nvSpPr>
          <p:spPr>
            <a:xfrm flipH="1" flipV="1">
              <a:off x="988560" y="5014440"/>
              <a:ext cx="36910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92200" y="5065560"/>
              <a:ext cx="3068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568440"/>
                  <a:tab algn="l" pos="1376280"/>
                  <a:tab algn="l" pos="2338560"/>
                  <a:tab algn="l" pos="2685960"/>
                  <a:tab algn="l" pos="2914560"/>
                  <a:tab algn="l" pos="3886200"/>
                  <a:tab algn="l" pos="4857840"/>
                  <a:tab algn="l" pos="5829480"/>
                  <a:tab algn="l" pos="6800760"/>
                  <a:tab algn="l" pos="7772400"/>
                  <a:tab algn="l" pos="8744040"/>
                  <a:tab algn="l" pos="9715680"/>
                  <a:tab algn="l" pos="10686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524400" y="5014800"/>
              <a:ext cx="0" cy="44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944640" y="4041720"/>
              <a:ext cx="3618000" cy="433080"/>
              <a:chOff x="944640" y="4041720"/>
              <a:chExt cx="3618000" cy="433080"/>
            </a:xfrm>
          </p:grpSpPr>
          <p:sp>
            <p:nvSpPr>
              <p:cNvPr id="611" name=""/>
              <p:cNvSpPr/>
              <p:nvPr/>
            </p:nvSpPr>
            <p:spPr>
              <a:xfrm>
                <a:off x="1494000" y="4041720"/>
                <a:ext cx="30686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00"/>
                  </a:spcBef>
                  <a:spcAft>
                    <a:spcPts val="601"/>
                  </a:spcAft>
                  <a:tabLst>
                    <a:tab algn="l" pos="0"/>
                    <a:tab algn="l" pos="568440"/>
                    <a:tab algn="l" pos="1028880"/>
                    <a:tab algn="l" pos="2000160"/>
                    <a:tab algn="l" pos="2685960"/>
                    <a:tab algn="l" pos="2914560"/>
                    <a:tab algn="l" pos="3886200"/>
                    <a:tab algn="l" pos="4857840"/>
                    <a:tab algn="l" pos="5829480"/>
                    <a:tab algn="l" pos="6800760"/>
                    <a:tab algn="l" pos="7772400"/>
                    <a:tab algn="l" pos="8744040"/>
                    <a:tab algn="l" pos="9715680"/>
                    <a:tab algn="l" pos="1068696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–1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–18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44640" y="4051080"/>
                <a:ext cx="326880" cy="423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3" name=""/>
            <p:cNvSpPr/>
            <p:nvPr/>
          </p:nvSpPr>
          <p:spPr>
            <a:xfrm>
              <a:off x="1494000" y="4489560"/>
              <a:ext cx="3402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568440"/>
                  <a:tab algn="l" pos="1200240"/>
                  <a:tab algn="l" pos="2171880"/>
                  <a:tab algn="l" pos="2685960"/>
                  <a:tab algn="l" pos="2914560"/>
                  <a:tab algn="l" pos="3886200"/>
                  <a:tab algn="l" pos="4857840"/>
                  <a:tab algn="l" pos="5829480"/>
                  <a:tab algn="l" pos="6800760"/>
                  <a:tab algn="l" pos="7772400"/>
                  <a:tab algn="l" pos="8744040"/>
                  <a:tab algn="l" pos="9715680"/>
                  <a:tab algn="l" pos="10686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629080" y="771480"/>
            <a:ext cx="598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Use the Factor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76240" y="1503360"/>
            <a:ext cx="75614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nce the remainder is 0,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3) is a factor of the polynomial. The polynomi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1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18 can be factored a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3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6). The polynomial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6 is the depressed polynomial. Check to see if this polynomial can be fact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3520" y="3772080"/>
            <a:ext cx="8076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6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6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the tri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33520" y="47815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So,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 baseline="40000">
                <a:solidFill>
                  <a:srgbClr val="e01b22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+ 4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 baseline="40000">
                <a:solidFill>
                  <a:srgbClr val="e01b2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– 15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– 18 = (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– 3)(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+ 6)(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essonmenutext"/>
          <p:cNvSpPr/>
          <p:nvPr/>
        </p:nvSpPr>
        <p:spPr>
          <a:xfrm>
            <a:off x="1066680" y="1855800"/>
            <a:ext cx="758376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1" action="ppaction://hlinksldjump"/>
              </a:rPr>
              <a:t>Five-Minute Check (over Lesson 6–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2" action="ppaction://hlinksldjump"/>
              </a:rPr>
              <a:t>Then/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3" action="ppaction://hlinksldjump"/>
              </a:rPr>
              <a:t>New 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4" action="ppaction://hlinksldjump"/>
              </a:rPr>
              <a:t>Key Concept:  Remainder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5" action="ppaction://hlinksldjump"/>
              </a:rPr>
              <a:t>Example 1:	Synthetic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6" action="ppaction://hlinksldjump"/>
              </a:rPr>
              <a:t>Example 2:	Real-World Example:  Find Function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7" action="ppaction://hlinksldjump"/>
              </a:rPr>
              <a:t>Key Concept:  Factor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8" action="ppaction://hlinksldjump"/>
              </a:rPr>
              <a:t>Example 3:	Use the Factor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629080" y="771480"/>
            <a:ext cx="598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Use the Factor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1504800"/>
            <a:ext cx="7599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 indent="-1371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ou can see that the graph of the related func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1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18 cross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axis at 3, –6, and –1. Thus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3)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(–6)]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(–1)]. </a:t>
            </a: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2301840" y="3086280"/>
            <a:ext cx="2906640" cy="334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TPAnswers"/>
          <p:cNvSpPr/>
          <p:nvPr/>
        </p:nvSpPr>
        <p:spPr>
          <a:xfrm>
            <a:off x="857160" y="2822400"/>
            <a:ext cx="47815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yes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5)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yes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yes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2)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2 is not a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PQuestion"/>
          <p:cNvSpPr/>
          <p:nvPr/>
        </p:nvSpPr>
        <p:spPr>
          <a:xfrm>
            <a:off x="476280" y="1498680"/>
            <a:ext cx="8020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Determine whether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2 is a factor of </a:t>
            </a:r>
            <a:br>
              <a:rPr sz="2400"/>
            </a:b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8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17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10. If so, find the remaining factors of the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857160" y="28004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PAnswers"/>
          <p:cNvSpPr/>
          <p:nvPr/>
        </p:nvSpPr>
        <p:spPr>
          <a:xfrm>
            <a:off x="1066680" y="2793960"/>
            <a:ext cx="426744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(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 – 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(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 – 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(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PQuestion"/>
          <p:cNvSpPr/>
          <p:nvPr/>
        </p:nvSpPr>
        <p:spPr>
          <a:xfrm>
            <a:off x="685800" y="1657440"/>
            <a:ext cx="802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actor 8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c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g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 If the polynomial is not factorable, write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prime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3520" y="380988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TPAnswers"/>
          <p:cNvSpPr/>
          <p:nvPr/>
        </p:nvSpPr>
        <p:spPr>
          <a:xfrm>
            <a:off x="1066680" y="2819520"/>
            <a:ext cx="46483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(5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6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(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6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(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PQuestion"/>
          <p:cNvSpPr/>
          <p:nvPr/>
        </p:nvSpPr>
        <p:spPr>
          <a:xfrm>
            <a:off x="685800" y="1657440"/>
            <a:ext cx="802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actor 1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az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6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bz –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cz +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10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a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5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b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5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c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 If the polynomial is not factorable, write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prime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533520" y="475452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TPAnswers"/>
          <p:cNvSpPr/>
          <p:nvPr/>
        </p:nvSpPr>
        <p:spPr>
          <a:xfrm>
            <a:off x="1066680" y="2666880"/>
            <a:ext cx="556272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1789"/>
              </a:spcBef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89"/>
              </a:spcBef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(2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22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89"/>
              </a:spcBef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(4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2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22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89"/>
              </a:spcBef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PQuestion"/>
          <p:cNvSpPr/>
          <p:nvPr/>
        </p:nvSpPr>
        <p:spPr>
          <a:xfrm>
            <a:off x="685800" y="1657440"/>
            <a:ext cx="802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actor 8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m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8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y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m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–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y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 If the polynomial is not factorable, write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prime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533520" y="419112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TPQuestion"/>
          <p:cNvSpPr/>
          <p:nvPr/>
        </p:nvSpPr>
        <p:spPr>
          <a:xfrm>
            <a:off x="685800" y="165744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16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d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48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d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32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33520" y="247824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514" name=""/>
          <p:cNvGrpSpPr/>
          <p:nvPr/>
        </p:nvGrpSpPr>
        <p:grpSpPr>
          <a:xfrm>
            <a:off x="1066680" y="2324160"/>
            <a:ext cx="2791080" cy="3382920"/>
            <a:chOff x="1066680" y="2324160"/>
            <a:chExt cx="2791080" cy="3382920"/>
          </a:xfrm>
        </p:grpSpPr>
        <p:sp>
          <p:nvSpPr>
            <p:cNvPr id="515" name="TPAnswers"/>
            <p:cNvSpPr/>
            <p:nvPr/>
          </p:nvSpPr>
          <p:spPr>
            <a:xfrm>
              <a:off x="1066680" y="240048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" descr=""/>
            <p:cNvPicPr/>
            <p:nvPr/>
          </p:nvPicPr>
          <p:blipFill>
            <a:blip r:embed="rId4"/>
            <a:srcRect l="0" t="0" r="0" b="74474"/>
            <a:stretch/>
          </p:blipFill>
          <p:spPr>
            <a:xfrm>
              <a:off x="1666800" y="2324160"/>
              <a:ext cx="1389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5"/>
            <a:srcRect l="0" t="74474" r="0" b="0"/>
            <a:stretch/>
          </p:blipFill>
          <p:spPr>
            <a:xfrm>
              <a:off x="1658880" y="5086440"/>
              <a:ext cx="13892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6"/>
            <a:srcRect l="0" t="23410" r="0" b="51064"/>
            <a:stretch/>
          </p:blipFill>
          <p:spPr>
            <a:xfrm>
              <a:off x="1658880" y="3267000"/>
              <a:ext cx="1389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7"/>
            <a:srcRect l="0" t="45296" r="0" b="25538"/>
            <a:stretch/>
          </p:blipFill>
          <p:spPr>
            <a:xfrm>
              <a:off x="1658880" y="4114800"/>
              <a:ext cx="138924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PQuestion"/>
          <p:cNvSpPr/>
          <p:nvPr/>
        </p:nvSpPr>
        <p:spPr>
          <a:xfrm>
            <a:off x="685800" y="165744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64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3520" y="52578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PAnswers"/>
          <p:cNvSpPr/>
          <p:nvPr/>
        </p:nvSpPr>
        <p:spPr>
          <a:xfrm>
            <a:off x="1066680" y="317484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PQuestion"/>
          <p:cNvSpPr/>
          <p:nvPr/>
        </p:nvSpPr>
        <p:spPr>
          <a:xfrm>
            <a:off x="685800" y="1657440"/>
            <a:ext cx="8020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The width of a box is 3 feet less than the length. The height is 4 feet less than the length. The volume of the box is 36 cubic feet. Find the length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33520" y="604980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647640" y="1295280"/>
            <a:ext cx="3373560" cy="31140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4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/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812880" y="1828800"/>
            <a:ext cx="761976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used the Distributive Property and factoring to simplify algebraic expression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sson 5–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711360" y="304812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812880" y="4057560"/>
            <a:ext cx="76197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functions by using synthetic substit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12880" y="5086440"/>
            <a:ext cx="761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ether a binomial is a factor of a polynomial by using synthetic substit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31:51Z</dcterms:created>
  <dc:creator> </dc:creator>
  <dc:description/>
  <dc:language>en-US</dc:language>
  <cp:lastModifiedBy>Madeira Station</cp:lastModifiedBy>
  <dcterms:modified xsi:type="dcterms:W3CDTF">2009-03-17T20:44:16Z</dcterms:modified>
  <cp:revision>63</cp:revision>
  <dc:subject/>
  <dc:title>Glencoe Algebra 2</dc:title>
</cp:coreProperties>
</file>